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608-3AB6-4E7C-93FA-5A1DD01C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596-3B6C-46F9-BA00-1B99646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200C1-C785-4AE3-9EFA-D0E6BF41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37012-6A21-4E54-BEF3-4757EA1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D2AC-ADA4-4DD5-AD80-018318E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24319-B752-43BC-BCA8-074D156D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1E79E-8875-4322-ACD5-94717B6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D5884-D449-4D10-AB64-61879D9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B0443-3975-46E6-9648-6588860D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9C9A6-9C53-4091-86DE-14A8766F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08DF-DAC7-4A1A-808F-D2903BBE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DCF03-BFD3-42DF-BF64-21C28D9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2E8-A1D2-444D-B67F-4FC6C25C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A2A9-7988-45A7-96D3-DCBA25D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8B6E1-2194-45F7-B0C8-6D77DE1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A9BFB-7C4B-48E2-A864-37F816C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6D197-D290-471B-BAD5-77474EA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B922-CB3B-4702-8CF5-5AB7365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C2F6-C649-48E3-817C-336CD92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754E8-BBFE-457D-9E26-FA6F7CB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12236-6CEB-4678-BCD2-145B4A5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7C824-5E27-4AAE-AF09-387EC3D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41D4F-E423-4B3C-AA24-E7C39491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5C1-AFBD-47AB-A463-D85FC59C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180B-875C-405E-8C7C-CA4DC4CF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0CA62-1266-4092-98A8-F32A084D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909F4-A26C-482E-A2C5-2585143F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FC156-89C4-41F3-9CEF-D3DE37A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4E360-1827-43D3-9E54-B13CA51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26CBE-136F-4DA8-BDDC-719695A3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F3F20-1F4E-4AF9-8C99-55F2D1E4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222B1-0142-404C-A391-EBB8FD3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72737-3D6E-447C-A115-853C7EE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4080A-53AE-43AD-9A18-5B18D4E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A84D-3BE1-43D5-9C36-19527794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E11AF-A7F8-4281-90DE-03103D5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6240-D8FA-411D-91A2-06FF0883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AA91-3EAA-450C-8956-1FD95105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6FAB4-986B-47D7-AEB4-9BB5EF96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D88E6-1463-4851-8383-AB81B38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B1C6A-9B3F-48E5-9668-5D410732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2F314-BFC0-4E97-9ABD-250C4A1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45275-561B-4756-8766-1AAE27E1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21064-AAD0-4B3C-836F-639E5FD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6B5AD-F0D0-4932-A31E-DB630E1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3B17-AFD3-48EB-A68B-7280DF2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D621C-F935-4495-82C1-691C2FC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4CDB0-FB77-401C-BE44-54CD76D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23F3E-5B12-4F09-9C1A-ED07F52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5D79C-43BD-42A3-A229-01E74BCF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E4FCA-CC79-43C9-AA67-426D498F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158FE-73D2-4140-B424-A143E764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A70DC-C0C0-4183-88E2-892446F9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FD8C3-126A-4986-8568-CEB67EB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E0B65-DA5D-4811-9C06-E92E505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0A2ED-EC33-4C5C-A1DB-46E612C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65D8-1F5C-4A4F-A985-35808BA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D8061-9F00-4E0A-B3E8-B124172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CF249-69A9-446B-802B-C4F5AED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AB4C9-C402-4FFB-B8E7-02D79A9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80480-1688-4282-82AB-1CC669E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698EF-2637-4E38-A52C-513E7B3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A7D23-F4A7-4227-98D5-CA560A09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9F31A-D741-4C94-9CEB-C4C381A4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D5DB5-23D6-40DB-B45D-1105AF6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2EE9D-E330-4838-AB42-7B7B866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55C76-FD25-4E25-8E7B-101DF73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4901-D21D-47C8-A5BE-BB8F32E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E823E-C162-47E8-ABD7-7F66675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C8F05-8CCD-455D-8307-B48682A1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B0835-91EF-421E-BC37-0744A0F4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6D9BA-1E9A-40DE-AE4A-98025B5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07DF7-3410-4998-BEDF-77918C1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19127-5106-4AAC-B7EA-4F9FE17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5BCB5-3B6D-4411-AD90-218E878B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D3D53-DF96-4943-82E5-637DA4DA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76362-E4DA-49C0-9C7B-F52B44AE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856BB-23AF-481E-9FED-E84830A4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B36A-770A-4E3E-B6B5-3EEC3FD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A93D0-3BEE-4096-AB64-002497F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BF4BF-5D0C-4C01-AA8F-CACBAC05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AFB2E-43EE-4A67-B4C7-ADF12420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61204-0685-47C5-837A-0569235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15531-C547-4025-996B-1C581E9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8EE27-027F-4EBC-AE5A-77407E6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74AA9-7FC0-4F51-B8B4-2980A62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B1856-1506-477A-B9E3-56AF8D9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1DE27-4489-4023-957E-1B4BE6B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DA5BB-DAB0-459C-AD14-3307DBA4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274C-A83C-44D8-816A-793C4C9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34243-0956-4E7D-A87D-CFFF83C0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44B9F-1ADE-4460-B5C9-DFB60D50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94EA7-62C1-4FBA-81FE-F14A906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65A39-FB39-4BE8-995F-5D590D8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5C237-EEFA-41AC-AA50-3EA0027A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80808-EAE8-4CC8-AAA4-D452EF25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9762D-3761-464A-9EC4-C5D6D48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1CEC3-229D-49F8-96A0-09DDF85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F5C1E-81A3-40FF-8352-991D340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25CBE-D932-41CB-8D45-241EF9E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01B0-235F-4D59-BB4C-2FDCCF6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00637-B609-4959-A5DA-668016FB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B8711-14E0-4348-B832-31C0D9D6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F4ECA-374E-4741-A4C8-13E54FED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40D56-8DA6-4C51-A0D5-4CD516F9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F16E5-B029-4AF8-BCA0-2D940D20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59775-E06C-405F-9734-5520ADC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96729-595A-4C52-959A-9EE99F9B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0392D-DE22-43D6-ADE5-93BA9FD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57DC1-A8E6-452C-9DCD-FBDA2CD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C9D4B-83F0-4679-9EA6-E75ACC4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E98-4CAE-462C-AB3F-307535AF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4D1-FDDA-48D8-9739-03B80713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FFC5F-D477-4D48-8711-8FD24AF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86524-20B6-42BF-A1A7-90284C3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92796-2EC1-4DFF-A86B-2A756D85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95C1A-E9F2-437D-A4C9-F515F168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E22C1-C13B-4E79-866C-2D6F144A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C1B32-D436-45B0-9D20-4ED64758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6C53C-0F13-461E-992E-CD47F30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E8A05-F18C-4802-8BB2-76EFE25D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76B9F-5D36-4CA9-9294-809824A0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770EC-FDB9-4853-9725-098C4C10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B27C-00A3-4A03-B591-7639031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E1BD1-F1DA-495E-BAF1-90CA098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9EB7C-7538-4244-8964-804FD42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CDE11-97B6-4249-AC29-3C78C7A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A9F3C-B63A-4EC8-8B35-4A2880A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6439C-A720-41B3-8EC4-9084BDB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118FF-D6DE-443A-BC59-338E480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22752-4B75-45F8-915C-745B3863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CA07B-4B14-4834-A92C-C7EFED63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B358F-5C2D-4993-A4DB-AFA5C89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D226D-4B3B-4FDA-B605-70A4216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A99-A4BF-4072-886F-609CD15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A5E1D-49AC-469D-9D5E-8221FAB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1E10F-6E04-48E0-A0D5-6C0D8C4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2335A-4CE5-4A9C-8E35-7E68456B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D3C84-C076-4365-AE98-56C34F0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AEC0D-5163-49D0-AD65-B099DB1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A8D0B-357F-4B81-9523-9FEB5A3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54E04-15FA-43FE-A85F-BF2B7FD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B9C30-1696-49A6-AA99-D263AE93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92B2E-475D-4BC9-8E88-B5A10D0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943B9-F1C5-4E5B-AA21-524A9EF2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413D-2580-485C-A210-14B2CFD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CD1FE-F06F-427F-A6B8-EEB1868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6A2C7-B155-4AC0-BE4C-176EFFEE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C0B92-F24C-4A09-BFDF-7A25D7E1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16AE0-75B9-4C33-9F53-EB8A81F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47F86-FE6F-40A6-BE43-2CED1341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BCDB7-139E-44FC-98D8-DAD570D9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D0B9F-7A5B-404E-94F9-9A7BAE5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E64FA-37D5-44B0-94CF-5CEA084E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07CE8-08E5-489D-B7A7-97E0B401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145D2-0B3D-451A-9AFD-1157C021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4D1-6288-4F70-A8F9-B2980431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2D8EC-60EB-4841-879A-95FD1FD8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87A14-C88C-4C37-A570-96462242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13ADB-7CAA-44F6-AE4E-CD7E957B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58213-A4D4-4D02-959D-CA5FDE4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4890A-182D-4B22-87C5-03362D97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A3C5D7-D5B1-40A5-8DC7-2BD81521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52CFB-E2BB-46C2-BEA5-938F248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7FFF1-3EA7-4DCC-B2F3-F4CD35D4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EDE80-D0BB-4E40-85CF-3CCD014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748DB-A248-4B97-9690-DD18A83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AAAB-CB60-46C3-AEAF-378842BD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D6ABC-118B-4AF2-BD69-BC57FED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C2EE3-325E-49E5-8ABF-15F33D99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A50EB-F881-4026-9390-43A051E0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F9CF0-8896-46C7-AD03-C34DCD61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590755-3FD4-40D0-A604-014DA153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B0285B-BA84-40F1-8D5F-B0C0397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2B6C8-1628-4343-B2AA-B086964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7FC94-C11A-435B-BEDD-238EE2A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41B0F-1335-4348-A7EC-7DDE7664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1C06F-A543-4CEC-85B6-5122AD3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7E4D-1DFA-4A47-AD96-8538B594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8FDF9-0A80-463E-BB75-930D839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2EB953-9D1F-4650-9DA2-2D7B8505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77354-647D-4356-B1AB-AED084F0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AB237-D773-4067-9F8D-C6E9D644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41AA2C-29C4-4271-B77B-D835AA8B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4DBD4-2913-49A8-8952-A05F28A1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B6E7E8-98CC-4BDE-99D9-DF4DA3F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B5EA3-7F2E-45B0-A66C-F61E88B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22FF4-34AB-4EC0-8379-4EC7711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77515-2EF6-4A33-9575-55CBD8DC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AC7C-7915-4D07-A129-97942A7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03128-AC0D-4D6D-8E77-664CB8AF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174DA-0875-49F3-A8ED-A46EBAD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332BBA-ED00-49A5-9E8C-BB650E2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9EF60-5D4C-4E9D-8133-6291B60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8BDB3-ADF9-4C81-B208-6AFA6AE4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115F3-8444-47A2-9DF2-C2B58661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9DB165-9BFA-4A1E-A703-3580FEA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FF6544-C428-4EED-9E4B-7E7CD32F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E38C6-9AA4-44A8-8AC2-D92776E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3DF52B-AF45-41AE-B5C2-30880E23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24AA-933E-4185-B45C-0D82C98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37C90-3C8C-4C5A-B60C-0F87D7F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6E4E9F-86D8-42CF-BE85-AB84698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9B5185-477C-4BDB-BFB2-E8E0DF4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9FCE7-EB5C-42DD-8989-E2C5231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259701-BC74-4AF2-A776-305F751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6C4952-7EDF-43FA-AA5D-57AD240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1BB63-4A3B-4889-985C-FA8B3547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0609C-4399-4217-8765-73168A45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3DE8B-535C-49F1-9E8C-F45E40FF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9C5313-F265-4274-BBBB-D175D406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10E3-F018-4F48-858F-EF14DDE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E93D6-2619-4254-AC0B-AA14025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668489-0A8E-4562-875C-63B2A35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A4D711-9BB4-42C2-BD58-3955E83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A034C6-521E-45A3-A2A4-DBF52F93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FE1720-686D-4618-974A-1175954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626822-E2EF-4573-8FF6-2A7DA3C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3DB867-90F2-491C-95AB-F88D2D4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DD65AE-9A36-47A5-8ECB-F24DC86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BFE1F8-34A6-45EC-A7B6-B249BB2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73465C-2126-4553-BE52-0C76A97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63E-D104-48AD-9246-7C68D951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C48A-648B-47A6-B089-EB2CF95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C65D83-2C1A-432F-A71B-BB486354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EFB538-0031-482F-917C-C10812F0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443D3D-3AED-4FB0-9C81-AFC71E7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C95D9C-9077-47CA-9160-8F12581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5D113E-AE97-4F9E-B410-7B2B05F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3341E-62D0-4C7B-9018-8048F5E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AF559A-2202-4A62-92A9-F1960AE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AFFCC-E05F-4769-80CB-23D64BA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E9E60A-E915-489D-9204-81674EE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4D8B4C-F2B4-4802-AAB6-697110B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E9CC-AB91-471B-B71A-30E9D9E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EEE6D-EFDB-4ECE-8625-2513E35C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42EEE1-E3D6-49CD-B646-8EA05BB5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90C2C7-F6AA-4022-B9DA-2FC94045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BCEB72-A828-4940-876D-BB9888D0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33CB23-ADA1-4380-A7FB-F58F4E6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DC0AD-D25D-4831-880C-12ACAE08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9A50CF-3422-4D21-A2FB-FD44062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16E250-F662-4000-A415-722AA3F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EB15BA-77CA-440F-AE53-9EDAB11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48682F-E7C7-42B1-99D3-01919C6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6F92-8887-4A51-92E7-8B017DC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BF0AA-904E-4D5B-93FA-2ED6703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622652-14AF-44B2-B104-8B7A603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EB9F4B-9B9A-43E5-89D0-67610AE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6481B-B8AA-4017-9EDC-04D072F6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044F1E-FB8D-4CE9-B2CE-0331A23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A7B5DA-D94D-4B3B-8E35-9DBE8E29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3C6984-C38C-4A4F-A5EC-593129C3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CE52E6-F597-4E19-AC21-7ABEE3F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445BC-0BBD-4276-926E-94DA3BB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18CF96-9523-498F-95DF-87DE600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4B23-29B7-4298-AEDF-20956C3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133328-BA6D-4513-98B7-6C507D57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A6CABC-F747-40EF-A8BC-71419B9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AB19A4-6BA6-4EA1-B9F1-4180488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5FF15C-84CB-486B-A9D9-AA29181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539D5A-18BE-4C91-8D4F-CDA3183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36B4B8-37EB-4A8D-AC3B-2D961ECE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894175-E4FF-4B99-A624-B0763AA1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0C3BAA-5F5B-44B3-B0CD-733A269C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F167D7-13E0-4D40-859C-FC13DE4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E23518-FF5D-4E27-8011-A5A0878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A8D0-9CEC-49A2-84E9-AEEA2CC8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8BB744-2582-48E5-9D59-C40FA27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5547CE-6BB9-454E-BC94-F3FDBDA4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85A819-9FC7-4598-8619-9781700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1FF33C-2094-46E0-B38D-189726F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8A8075-7FC8-4A16-B574-CFB94BB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D2CC99-2AF4-4448-A127-16E0E4A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B89E6C-BBD8-4C6F-8B3E-A07C909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D7E9F0-234C-4526-BA40-596ED668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64898D-F3BD-4A81-9601-C7CC2432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7C695E-AD25-404B-9DD1-264B356A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08A5-819E-4B10-B174-C26A1797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4C311D-7469-4B22-91E9-8EA39198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97A471-E0EB-4E1B-8649-35FB85F3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8C5BE3-07C0-46C0-A0E7-BD133FE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270F89-C038-424B-9A47-1CDFD76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C2A679-E40E-40D5-A037-B564346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D91599-ACBF-4EB1-832C-8FFB12DF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1A22BD-8DD0-4473-A9CC-21C287E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A8E420-A158-42C2-96F9-DE22732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BBBC5F-BAE5-46F2-9802-3E59056B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555DF0-4168-483B-802C-6B869875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A835-9F4D-4F6C-82F3-1DF342AD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D3B6B7-50D5-4BFD-8339-60F925C1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653E98-2AF3-4B0D-B232-B002A173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76D7ED-6D2A-4652-A8AC-9C2182F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026A9E-5415-4788-8B96-9C709EF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5FB85E-EEF2-4766-BF6C-7BDAB74E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D940DD-AF83-405F-B450-E38FEC7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32EFE6-E52B-437D-87FC-0C4CC33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85AE96-4E97-425E-8165-62746E4D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63B41C-1DF5-4759-9BAC-EB9F392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B1B921-03A5-4366-A364-7675861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BEA0-C6D5-4084-820D-ED7B38EF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E890DD-62B2-4242-A964-4A56542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3217C6-7856-4FE6-BD6B-205A200E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A3441-7692-4303-8DC9-8B04D526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C024-1D05-4137-9E8B-D9ADC9E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83E8-B6FB-4038-9355-F9F744A1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4AA-5357-4078-B855-FEB8DB0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F0D4-1E09-4E20-8FB8-CAD0481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4443-1E3F-4008-B40F-323EF50F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C5DCD-941D-4AA5-AE08-67125DC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44A5-A4A5-49E2-9A74-8F19BF0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A5EF-290B-4DF3-B416-68E188DB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AB07-9DA5-4E13-B179-7B4159E2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0868-9B70-447F-9926-6FD3A59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4DC1-7E1B-4EC1-BD5A-C2BD4CC2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4DF3-C7D0-42E0-B4E0-0FD266BB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9BD4-2F63-45A1-92A4-598E0C83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ACA-4583-4678-B764-A96EB6CF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25E1-77E6-43B5-9659-E2564B25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103E-CF85-4B11-9376-5679BBC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60BC-D402-4DAF-A540-B37ACF7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96D12-F4B9-49C4-A763-AC839A80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0255-27FB-4337-8154-00C7EAD8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ABC5-06DD-4167-9978-4D6B68F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9D0A-C6D6-48F2-9CC6-EEEC679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0721-8B02-4095-9CCA-A53FC12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64F6A-506B-40DA-BAAF-D034E818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816B-EBAB-420F-B8F6-80CDDB64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665-96C5-4784-BC6C-D977E0A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6C4B-7EFC-4F86-A2DE-C6636368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9774-4C0D-4DF4-82AA-859EBB15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A761-7764-4304-9496-C39D256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B12D-8F5F-4F21-83FF-00CABB7C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CB62-B8E2-4FE5-BA0B-E54E731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F509-C6DF-4AC5-9FF0-F81B2C6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798F-4926-45F5-B71A-49F17B1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5BE1-24F0-4B58-A12A-5323209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3E2B-4B40-40FC-87D5-ACB22E4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E6317-6930-44C5-81E9-84397E8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2B9-C82C-4C11-9AE7-9CB8A7F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BE8D-7F5A-4165-BDB0-188A74A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4830-4966-4B9C-A89D-BF73EBE8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2EBF-D671-458A-B049-3CA0C828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7743-D7D4-4D22-881F-DEFA2E62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5577-144E-4C8E-B4D1-54EB66D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A5CC-B3C3-427C-9EAC-6C00568A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85B2-D440-4DC6-BE28-532BF01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5641-8073-4A20-B0C4-79312DD5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21B1-7E93-4F17-8377-3133CA57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E29D-067E-4514-BC79-716DA74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609-AE7F-44E7-A5BE-3E2BC0C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A9D2-32E2-4FAF-983E-947C2DE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5782B-B73A-4B5D-9BC8-B201026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83B8-EB26-4BCE-A873-10CDAEFD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D562-DA59-4798-A694-9D8ED7B1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6372-BC48-41D4-A0AF-6AEF3383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BC76-6E54-4B83-B31B-E01DDC89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15E6-1C95-4A4F-AA15-AC4A3D0F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BFFE-D32D-4B1F-B916-10EA65F8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CFA4-17E6-4F3C-A96A-0F9B1DD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268B-BC34-47CA-B41A-8C0FBC5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D97-5FE7-47B8-8DC4-BD90600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EC5B-192E-406E-AB57-35BD477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197F-29ED-4DDA-B553-492467E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A71E-69E7-477C-B65E-3D6BCF5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7882-769E-4D73-B4A0-03E2DDC2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BD93-9F4A-48FD-B59A-8E8260F7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FF5F8-9FC9-42F9-9D9F-B242D68E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E8CD8-5F70-497E-87DC-AFF06A80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56313-22DA-456E-B3EC-EDCB7D0D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B200-6E7B-4E8B-9777-BF8D3DE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766B-935C-40E0-A098-3D0B3B4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33F-BA74-431F-B6F6-19A2DDB42E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0EA-8462-4B46-A098-A54069278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FA6-0E95-4342-9D5B-F448D3C05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573-66DE-4D11-A7E1-C0ECDF526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7C4-6B40-45B6-BA62-093207BD12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3557-4B9D-4A1F-98AD-911163A0D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7871-ED97-4634-B3C5-9E21C364B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7FA8-608A-4F65-B9E6-643E42814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761-8E58-4FB1-8250-9F674A2FC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8DA-55DC-46D1-B067-F986C0194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AD66-080F-4F11-A63D-38D9D1795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A64-2102-4B7E-87B0-FFED9605D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9A2E-4DD5-47C8-BE0F-08134F3EE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705-BFCC-466E-9251-F56710DAE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B9D-9F64-4A63-9CE6-86056A48C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997-EFA3-4064-88BE-3BB5BB972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0E3-644A-4CAC-80EC-E3D2C01EA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0FFD-3FD2-4E32-8DF1-FE2FCD761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5A2-BC69-4B3C-A568-FE14CBD9A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6B7-CBC3-4E97-9A4B-C0BAFC741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B22-694A-47CC-962B-72FB6D410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A6BC-332A-48F9-8F9A-0B908A052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5F7-0AF6-41BD-85EF-C2E10E66CA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834-0C4E-426E-9772-34D671621C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763-87A7-4337-B8F7-C895E3ABA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3526-C964-48D7-8936-CE5067F8D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116E-C361-43AC-A113-B72DB9238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DCD-0BDB-4A9D-9FD1-D0B8AC891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CC2-710D-4DBF-917A-64E41B137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CAA9-2766-494A-BA0D-5800E06DE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3C8B-B93D-4B3E-9552-9B62208D4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15B-D62A-46B6-BCB1-983BA1964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F483-0F1E-4344-818E-1E2A33AD8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765-B67E-491C-871F-C2B2ADD42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8BF8-C057-414A-BA8E-9623EA9F1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F9B-8399-4246-8724-05843E207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5636-7F15-4B6B-99B6-5EFBC1FF9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96A-DD85-47EB-A9CF-1764F9CB9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14BC-E60C-4168-BC31-6C7EDF97D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56FE-EA40-4E0D-9B91-2133024D3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F22-EF25-4530-8C26-894303434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AFFD-4478-4F81-BBE1-6A605E9B7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5ED-E85C-4325-9DA4-9EF095C30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25F6-5C8C-49AE-AB66-72F432D45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273-DAF2-4C25-91F5-134FA45C3B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9810-ED36-4766-9751-94B4239FF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FAC-148D-4C30-8B52-D7A6928B5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F889-DEC1-4532-AE1B-BFE7168C3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3C26-BB15-462B-B17B-EC0D995C2F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AD0-3347-4D00-9A89-60C44BBF6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57360" y="3133800"/>
            <a:ext cx="6029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7" descr=""/>
          <p:cNvPicPr/>
          <p:nvPr/>
        </p:nvPicPr>
        <p:blipFill>
          <a:blip r:embed="rId1"/>
          <a:stretch/>
        </p:blipFill>
        <p:spPr>
          <a:xfrm>
            <a:off x="528480" y="838080"/>
            <a:ext cx="7991640" cy="51627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6738"/>
          <p:cNvSpPr/>
          <p:nvPr/>
        </p:nvSpPr>
        <p:spPr>
          <a:xfrm>
            <a:off x="7826400" y="2949480"/>
            <a:ext cx="36180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5713" descr=""/>
          <p:cNvPicPr/>
          <p:nvPr/>
        </p:nvPicPr>
        <p:blipFill>
          <a:blip r:embed="rId1"/>
          <a:stretch/>
        </p:blipFill>
        <p:spPr>
          <a:xfrm>
            <a:off x="538200" y="1200240"/>
            <a:ext cx="8048520" cy="41907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5714"/>
          <p:cNvSpPr/>
          <p:nvPr/>
        </p:nvSpPr>
        <p:spPr>
          <a:xfrm>
            <a:off x="7854840" y="2787480"/>
            <a:ext cx="36216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523800" y="7905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3665" descr=""/>
          <p:cNvPicPr/>
          <p:nvPr/>
        </p:nvPicPr>
        <p:blipFill>
          <a:blip r:embed="rId1"/>
          <a:stretch/>
        </p:blipFill>
        <p:spPr>
          <a:xfrm>
            <a:off x="585720" y="938160"/>
            <a:ext cx="7572600" cy="20289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113666" descr=""/>
          <p:cNvPicPr/>
          <p:nvPr/>
        </p:nvPicPr>
        <p:blipFill>
          <a:blip r:embed="rId2"/>
          <a:stretch/>
        </p:blipFill>
        <p:spPr>
          <a:xfrm>
            <a:off x="590400" y="3191040"/>
            <a:ext cx="7562880" cy="30668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3667"/>
          <p:cNvSpPr/>
          <p:nvPr/>
        </p:nvSpPr>
        <p:spPr>
          <a:xfrm>
            <a:off x="1025640" y="205092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8"/>
          <p:cNvSpPr/>
          <p:nvPr/>
        </p:nvSpPr>
        <p:spPr>
          <a:xfrm>
            <a:off x="968400" y="255600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9"/>
          <p:cNvSpPr/>
          <p:nvPr/>
        </p:nvSpPr>
        <p:spPr>
          <a:xfrm>
            <a:off x="920880" y="370836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70"/>
          <p:cNvSpPr/>
          <p:nvPr/>
        </p:nvSpPr>
        <p:spPr>
          <a:xfrm>
            <a:off x="987480" y="425124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71"/>
          <p:cNvSpPr/>
          <p:nvPr/>
        </p:nvSpPr>
        <p:spPr>
          <a:xfrm>
            <a:off x="892080" y="478476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2"/>
          <p:cNvSpPr/>
          <p:nvPr/>
        </p:nvSpPr>
        <p:spPr>
          <a:xfrm>
            <a:off x="987480" y="532764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73"/>
          <p:cNvSpPr/>
          <p:nvPr/>
        </p:nvSpPr>
        <p:spPr>
          <a:xfrm>
            <a:off x="949320" y="5889600"/>
            <a:ext cx="7245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2641" descr=""/>
          <p:cNvPicPr/>
          <p:nvPr/>
        </p:nvPicPr>
        <p:blipFill>
          <a:blip r:embed="rId1"/>
          <a:stretch/>
        </p:blipFill>
        <p:spPr>
          <a:xfrm>
            <a:off x="539640" y="739800"/>
            <a:ext cx="802008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1617" descr=""/>
          <p:cNvPicPr/>
          <p:nvPr/>
        </p:nvPicPr>
        <p:blipFill>
          <a:blip r:embed="rId1"/>
          <a:stretch/>
        </p:blipFill>
        <p:spPr>
          <a:xfrm>
            <a:off x="566640" y="961920"/>
            <a:ext cx="8029800" cy="52387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1618"/>
          <p:cNvSpPr/>
          <p:nvPr/>
        </p:nvSpPr>
        <p:spPr>
          <a:xfrm>
            <a:off x="816120" y="2079720"/>
            <a:ext cx="78595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1619"/>
          <p:cNvSpPr/>
          <p:nvPr/>
        </p:nvSpPr>
        <p:spPr>
          <a:xfrm>
            <a:off x="797040" y="2612880"/>
            <a:ext cx="785952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1620"/>
          <p:cNvSpPr/>
          <p:nvPr/>
        </p:nvSpPr>
        <p:spPr>
          <a:xfrm>
            <a:off x="777960" y="3117960"/>
            <a:ext cx="78595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1621"/>
          <p:cNvSpPr/>
          <p:nvPr/>
        </p:nvSpPr>
        <p:spPr>
          <a:xfrm>
            <a:off x="777960" y="3670200"/>
            <a:ext cx="78595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22"/>
          <p:cNvSpPr/>
          <p:nvPr/>
        </p:nvSpPr>
        <p:spPr>
          <a:xfrm>
            <a:off x="853920" y="4194000"/>
            <a:ext cx="785988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3"/>
          <p:cNvSpPr/>
          <p:nvPr/>
        </p:nvSpPr>
        <p:spPr>
          <a:xfrm>
            <a:off x="797040" y="4727520"/>
            <a:ext cx="78595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1624"/>
          <p:cNvSpPr/>
          <p:nvPr/>
        </p:nvSpPr>
        <p:spPr>
          <a:xfrm>
            <a:off x="853920" y="5270400"/>
            <a:ext cx="7859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25"/>
          <p:cNvSpPr/>
          <p:nvPr/>
        </p:nvSpPr>
        <p:spPr>
          <a:xfrm>
            <a:off x="749160" y="5813280"/>
            <a:ext cx="785988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0593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20080" cy="415260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0594"/>
          <p:cNvSpPr/>
          <p:nvPr/>
        </p:nvSpPr>
        <p:spPr>
          <a:xfrm>
            <a:off x="1122480" y="242568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5"/>
          <p:cNvSpPr/>
          <p:nvPr/>
        </p:nvSpPr>
        <p:spPr>
          <a:xfrm>
            <a:off x="1074600" y="296856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0596"/>
          <p:cNvSpPr/>
          <p:nvPr/>
        </p:nvSpPr>
        <p:spPr>
          <a:xfrm>
            <a:off x="969840" y="349236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0597"/>
          <p:cNvSpPr/>
          <p:nvPr/>
        </p:nvSpPr>
        <p:spPr>
          <a:xfrm>
            <a:off x="1084320" y="401652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8"/>
          <p:cNvSpPr/>
          <p:nvPr/>
        </p:nvSpPr>
        <p:spPr>
          <a:xfrm>
            <a:off x="1084320" y="454968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9"/>
          <p:cNvSpPr/>
          <p:nvPr/>
        </p:nvSpPr>
        <p:spPr>
          <a:xfrm>
            <a:off x="903240" y="5083200"/>
            <a:ext cx="74818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404640" y="2090880"/>
            <a:ext cx="8334720" cy="26762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2987640" y="3255840"/>
            <a:ext cx="774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7369200" y="4008600"/>
            <a:ext cx="7747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349280" y="4408560"/>
            <a:ext cx="774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390600" y="1362240"/>
            <a:ext cx="8362800" cy="41335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2797200" y="1712880"/>
            <a:ext cx="774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7"/>
          <p:cNvSpPr/>
          <p:nvPr/>
        </p:nvSpPr>
        <p:spPr>
          <a:xfrm>
            <a:off x="4854600" y="2103480"/>
            <a:ext cx="774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8"/>
          <p:cNvSpPr/>
          <p:nvPr/>
        </p:nvSpPr>
        <p:spPr>
          <a:xfrm>
            <a:off x="1063800" y="2874960"/>
            <a:ext cx="774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9"/>
          <p:cNvSpPr/>
          <p:nvPr/>
        </p:nvSpPr>
        <p:spPr>
          <a:xfrm>
            <a:off x="6226200" y="2865600"/>
            <a:ext cx="7747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10"/>
          <p:cNvSpPr/>
          <p:nvPr/>
        </p:nvSpPr>
        <p:spPr>
          <a:xfrm>
            <a:off x="2577960" y="3646440"/>
            <a:ext cx="1198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1"/>
          <p:cNvSpPr/>
          <p:nvPr/>
        </p:nvSpPr>
        <p:spPr>
          <a:xfrm>
            <a:off x="4654440" y="3646440"/>
            <a:ext cx="1198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12"/>
          <p:cNvSpPr/>
          <p:nvPr/>
        </p:nvSpPr>
        <p:spPr>
          <a:xfrm>
            <a:off x="3540240" y="4027320"/>
            <a:ext cx="24350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13"/>
          <p:cNvSpPr/>
          <p:nvPr/>
        </p:nvSpPr>
        <p:spPr>
          <a:xfrm>
            <a:off x="2168640" y="4799160"/>
            <a:ext cx="150804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14"/>
          <p:cNvSpPr/>
          <p:nvPr/>
        </p:nvSpPr>
        <p:spPr>
          <a:xfrm>
            <a:off x="4464000" y="4789440"/>
            <a:ext cx="16034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15"/>
          <p:cNvSpPr/>
          <p:nvPr/>
        </p:nvSpPr>
        <p:spPr>
          <a:xfrm>
            <a:off x="6892920" y="4789440"/>
            <a:ext cx="15080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395280" y="1300320"/>
            <a:ext cx="8353440" cy="42573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8159760" y="2960640"/>
            <a:ext cx="342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95280" y="1171440"/>
            <a:ext cx="8353440" cy="45151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207280" y="1541520"/>
            <a:ext cx="343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59"/>
          <p:cNvSpPr/>
          <p:nvPr/>
        </p:nvSpPr>
        <p:spPr>
          <a:xfrm>
            <a:off x="8217000" y="3817800"/>
            <a:ext cx="342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0833" descr=""/>
          <p:cNvPicPr/>
          <p:nvPr/>
        </p:nvPicPr>
        <p:blipFill>
          <a:blip r:embed="rId1"/>
          <a:stretch/>
        </p:blipFill>
        <p:spPr>
          <a:xfrm>
            <a:off x="390600" y="985680"/>
            <a:ext cx="8362800" cy="48866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0834"/>
          <p:cNvSpPr/>
          <p:nvPr/>
        </p:nvSpPr>
        <p:spPr>
          <a:xfrm>
            <a:off x="8140680" y="1484280"/>
            <a:ext cx="343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0835"/>
          <p:cNvSpPr/>
          <p:nvPr/>
        </p:nvSpPr>
        <p:spPr>
          <a:xfrm>
            <a:off x="8217000" y="3960720"/>
            <a:ext cx="342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9809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2004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9810"/>
          <p:cNvSpPr/>
          <p:nvPr/>
        </p:nvSpPr>
        <p:spPr>
          <a:xfrm>
            <a:off x="5654520" y="3112920"/>
            <a:ext cx="343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509760" y="728640"/>
            <a:ext cx="8172360" cy="60152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8786"/>
          <p:cNvSpPr/>
          <p:nvPr/>
        </p:nvSpPr>
        <p:spPr>
          <a:xfrm>
            <a:off x="8169120" y="2017800"/>
            <a:ext cx="343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87"/>
          <p:cNvSpPr/>
          <p:nvPr/>
        </p:nvSpPr>
        <p:spPr>
          <a:xfrm>
            <a:off x="8112240" y="3646440"/>
            <a:ext cx="342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7761" descr=""/>
          <p:cNvPicPr/>
          <p:nvPr/>
        </p:nvPicPr>
        <p:blipFill>
          <a:blip r:embed="rId1"/>
          <a:stretch/>
        </p:blipFill>
        <p:spPr>
          <a:xfrm>
            <a:off x="399960" y="2247840"/>
            <a:ext cx="8344080" cy="23623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7762"/>
          <p:cNvSpPr/>
          <p:nvPr/>
        </p:nvSpPr>
        <p:spPr>
          <a:xfrm>
            <a:off x="8188200" y="2674800"/>
            <a:ext cx="343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9:25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